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D421-6CC2-42C7-85A3-D9228FC9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35C4-A26E-43F9-8628-929BB07B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53B6-A531-46E2-9DDC-DC4526DD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5325-A97F-4E22-8D41-58CB9F23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1FD9-5769-4076-A816-5F122649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B4D2-B63C-4126-9A57-B9C7E018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8B3-7EDD-47A2-88E1-09300147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CA01-2FF1-4D91-BF96-1CA15F65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0D60-91CF-4CB0-90DD-0F96984F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C1F8-7C3C-49CE-A4D0-4D8C0919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BB9A-DB80-43C9-9574-3F17E787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0CDA-AF1E-496F-A09C-17015E86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2F9E-C7A4-49D5-B590-D65C3D229682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4760" y="1363680"/>
            <a:ext cx="8364600" cy="4924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560" y="1620720"/>
            <a:ext cx="4365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M.S Data Provider applica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9800" y="1089000"/>
            <a:ext cx="82695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33"/>
                </a:solidFill>
                <a:latin typeface="Verdana"/>
              </a:rPr>
              <a:t>&gt;M.S applic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24720" y="5300640"/>
            <a:ext cx="7192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Log-ou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56000" y="2421000"/>
            <a:ext cx="5832360" cy="39528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56000" y="4041720"/>
            <a:ext cx="583236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2995560"/>
            <a:ext cx="583236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84520" y="4083120"/>
            <a:ext cx="3637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ip depart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84520" y="2498760"/>
            <a:ext cx="4105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cted ship call (pre-arriva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84520" y="3075120"/>
            <a:ext cx="30607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ip arriv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56000" y="3517920"/>
            <a:ext cx="583236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84520" y="3578400"/>
            <a:ext cx="60548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zmat notification prior to depart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54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BSOU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01560" y="2421000"/>
            <a:ext cx="1738440" cy="2160360"/>
            <a:chOff x="601560" y="2421000"/>
            <a:chExt cx="1738440" cy="2160360"/>
          </a:xfrm>
        </p:grpSpPr>
        <p:sp>
          <p:nvSpPr>
            <p:cNvPr id="58" name=""/>
            <p:cNvSpPr/>
            <p:nvPr/>
          </p:nvSpPr>
          <p:spPr>
            <a:xfrm>
              <a:off x="601560" y="2421000"/>
              <a:ext cx="1738440" cy="2160360"/>
            </a:xfrm>
            <a:prstGeom prst="flowChartAlternateProcess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1560" y="2971800"/>
              <a:ext cx="1738440" cy="824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ff"/>
                  </a:solidFill>
                  <a:latin typeface="Verdana"/>
                </a:rPr>
                <a:t>Send/ update notifications module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74760" y="1363680"/>
            <a:ext cx="8364600" cy="4924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560" y="1620720"/>
            <a:ext cx="3017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Select Vess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9800" y="1089000"/>
            <a:ext cx="82695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Verdana"/>
              </a:rPr>
              <a:t>&gt;M.S D.Pr. application&gt;Notify/update expected ship call&gt;</a:t>
            </a:r>
            <a:r>
              <a:rPr b="1" lang="en-GB" sz="1200" spc="-1" strike="noStrike">
                <a:solidFill>
                  <a:srgbClr val="ff9933"/>
                </a:solidFill>
                <a:latin typeface="Verdana"/>
              </a:rPr>
              <a:t>Step 1: Select vesse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78040" y="204480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O Number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22680" y="202716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MSI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4720" y="206064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3280" y="203832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78040" y="23083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all Sign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11640" y="228924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hip Name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44720" y="232416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3280" y="230184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8000" y="2610000"/>
            <a:ext cx="7066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arc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95760" y="26100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01560" y="3429000"/>
            <a:ext cx="7953120" cy="1608480"/>
            <a:chOff x="601560" y="3429000"/>
            <a:chExt cx="7953120" cy="1608480"/>
          </a:xfrm>
        </p:grpSpPr>
        <p:sp>
          <p:nvSpPr>
            <p:cNvPr id="74" name=""/>
            <p:cNvSpPr/>
            <p:nvPr/>
          </p:nvSpPr>
          <p:spPr>
            <a:xfrm>
              <a:off x="601560" y="3429000"/>
              <a:ext cx="159912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                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hip   Name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00680" y="3429000"/>
              <a:ext cx="8208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IMO Number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13920" y="3429000"/>
              <a:ext cx="9522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MMSI 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92040" y="3429000"/>
              <a:ext cx="79056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hip   Call Sig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82600" y="3429000"/>
              <a:ext cx="9252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Last Call ATD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08160" y="3429000"/>
              <a:ext cx="9068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urrent Call ETA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15000" y="3429000"/>
              <a:ext cx="9698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urrent Call AT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585200" y="3429000"/>
              <a:ext cx="95688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urrent Call ATD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1560" y="3825720"/>
              <a:ext cx="159912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  </a:t>
              </a:r>
              <a:r>
                <a:rPr b="1" lang="en-US" sz="1000" spc="-1" strike="noStrike" u="sng">
                  <a:solidFill>
                    <a:srgbClr val="0099ff"/>
                  </a:solidFill>
                  <a:uFillTx/>
                  <a:latin typeface="Verdana"/>
                </a:rPr>
                <a:t>ICARO </a:t>
              </a: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00680" y="3825720"/>
              <a:ext cx="82080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038842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13920" y="3825720"/>
              <a:ext cx="97776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522690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92040" y="3825720"/>
              <a:ext cx="79056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FGV3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82600" y="3825720"/>
              <a:ext cx="9252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/3/2007 16: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08160" y="3825720"/>
              <a:ext cx="87804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15000" y="3825720"/>
              <a:ext cx="96984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585200" y="3825720"/>
              <a:ext cx="96948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1560" y="4232160"/>
              <a:ext cx="159912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</a:t>
              </a:r>
              <a:r>
                <a:rPr b="1" lang="en-US" sz="1000" spc="-1" strike="noStrike" u="sng">
                  <a:solidFill>
                    <a:srgbClr val="0099ff"/>
                  </a:solidFill>
                  <a:uFillTx/>
                  <a:latin typeface="Verdana"/>
                </a:rPr>
                <a:t>ICARUS PALACE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00680" y="4232160"/>
              <a:ext cx="82080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144811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13920" y="4232160"/>
              <a:ext cx="97776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395190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92040" y="4232160"/>
              <a:ext cx="79056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SWEW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82600" y="4232160"/>
              <a:ext cx="9252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/2/2006 15:3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08160" y="4232160"/>
              <a:ext cx="87804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9/7/2009 21:3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15000" y="4232160"/>
              <a:ext cx="96984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85200" y="4232160"/>
              <a:ext cx="969480" cy="7038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1560" y="4638600"/>
              <a:ext cx="159912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</a:t>
              </a:r>
              <a:r>
                <a:rPr b="1" lang="en-US" sz="1000" spc="-1" strike="noStrike" u="sng">
                  <a:solidFill>
                    <a:srgbClr val="0099ff"/>
                  </a:solidFill>
                  <a:uFillTx/>
                  <a:latin typeface="Verdana"/>
                </a:rPr>
                <a:t>ICARUS  III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88080" y="4638600"/>
              <a:ext cx="82116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145413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01320" y="4638600"/>
              <a:ext cx="97740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123350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79080" y="4638600"/>
              <a:ext cx="79092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3WM9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70000" y="4638600"/>
              <a:ext cx="9252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/7/2008 18:25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95560" y="4638600"/>
              <a:ext cx="87804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/6/2009 07:2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02040" y="4638600"/>
              <a:ext cx="96984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/6/2009 08:05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72240" y="4638600"/>
              <a:ext cx="96984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01560" y="5734080"/>
            <a:ext cx="826956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Verdana"/>
              </a:rPr>
              <a:t>3 vessels found, displaying 3 item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11720" y="2308320"/>
            <a:ext cx="50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ICA*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109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BSOU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908000" y="2610000"/>
            <a:ext cx="706680" cy="24624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arc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74760" y="1333440"/>
            <a:ext cx="8364600" cy="5450040"/>
          </a:xfrm>
          <a:prstGeom prst="flowChartAlternateProcess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6880" y="1620720"/>
            <a:ext cx="5638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Insert/ Update expected ship call dat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4760" y="1089000"/>
            <a:ext cx="8269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2b2b2"/>
                </a:solidFill>
                <a:latin typeface="Verdana"/>
              </a:rPr>
              <a:t>&gt;M.S D.Pr. application&gt;Notify/update expected ship call&gt;</a:t>
            </a:r>
            <a:r>
              <a:rPr b="1" lang="en-GB" sz="1000" spc="-1" strike="noStrike">
                <a:solidFill>
                  <a:srgbClr val="ff9933"/>
                </a:solidFill>
                <a:latin typeface="Verdana"/>
              </a:rPr>
              <a:t>Step 2: Insert/ Update expected ship cal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35400" y="217656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allRef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3280" y="2174760"/>
            <a:ext cx="28447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4760" y="260028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as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86040" y="2631960"/>
            <a:ext cx="814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86040" y="2612880"/>
            <a:ext cx="6699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SGSI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4760" y="28447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 las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86040" y="2860560"/>
            <a:ext cx="130788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86040" y="2828880"/>
            <a:ext cx="130788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9/6/2009 16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3920" y="2600280"/>
            <a:ext cx="538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84560" y="2876400"/>
            <a:ext cx="60336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49800" y="2631960"/>
            <a:ext cx="15829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ex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49800" y="2847960"/>
            <a:ext cx="17524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 at Nex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71640" y="261936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261612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263196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288612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2619360"/>
            <a:ext cx="1308240" cy="231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4/7/2009 15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35280" y="2886120"/>
            <a:ext cx="1308240" cy="231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9/7/2009 17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90600" y="312120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xpected Position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3121200"/>
            <a:ext cx="43927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6240" y="265104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32720" y="2638440"/>
            <a:ext cx="814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32720" y="2647800"/>
            <a:ext cx="6699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EH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6240" y="263700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19760" y="287640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19760" y="2876400"/>
            <a:ext cx="145260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20/7/2009 1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35280" y="3102120"/>
            <a:ext cx="4392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15 char subsidiary LOCODE or free text entry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83280" y="2151000"/>
            <a:ext cx="284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to be inserted by the application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715160" y="612936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66200" y="5827680"/>
            <a:ext cx="7063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ubmi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560" y="5827680"/>
            <a:ext cx="4000680" cy="82728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560" y="5884920"/>
            <a:ext cx="36338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4 hours before arrival information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All ships)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6129360"/>
            <a:ext cx="158904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rsons on boar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63760" y="6119640"/>
            <a:ext cx="67320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73400" y="63738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02040" y="63738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av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72080" y="5827680"/>
            <a:ext cx="2730600" cy="82728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72080" y="5875200"/>
            <a:ext cx="2819160" cy="39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Hazmat Information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All ships arriving from a non EU port carrying dangerous goods)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43520" y="6373800"/>
            <a:ext cx="23335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nter/ update Hazmat info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156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BSOU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049400" y="2176560"/>
            <a:ext cx="3186000" cy="246240"/>
            <a:chOff x="1049400" y="2176560"/>
            <a:chExt cx="3186000" cy="246240"/>
          </a:xfrm>
        </p:grpSpPr>
        <p:sp>
          <p:nvSpPr>
            <p:cNvPr id="160" name=""/>
            <p:cNvSpPr/>
            <p:nvPr/>
          </p:nvSpPr>
          <p:spPr>
            <a:xfrm>
              <a:off x="1049400" y="2176560"/>
              <a:ext cx="11062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Vessel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16080" y="2192400"/>
              <a:ext cx="211932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16080" y="2176560"/>
              <a:ext cx="202428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ICARO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06520" y="3365640"/>
            <a:ext cx="7866000" cy="2368440"/>
            <a:chOff x="506520" y="3365640"/>
            <a:chExt cx="7866000" cy="2368440"/>
          </a:xfrm>
        </p:grpSpPr>
        <p:sp>
          <p:nvSpPr>
            <p:cNvPr id="164" name=""/>
            <p:cNvSpPr/>
            <p:nvPr/>
          </p:nvSpPr>
          <p:spPr>
            <a:xfrm>
              <a:off x="511200" y="3365640"/>
              <a:ext cx="7861320" cy="236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6880" y="4106880"/>
              <a:ext cx="16016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xpected to birth at anchorage?  (Y/N)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2440" y="3670200"/>
              <a:ext cx="15890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                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hip configuration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95560" y="3670200"/>
              <a:ext cx="1374840" cy="550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Verdana"/>
                </a:rPr>
                <a:t>(For tankers)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Nature and volume of cargo: 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90600" y="4106880"/>
              <a:ext cx="673200" cy="55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N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90600" y="3670200"/>
              <a:ext cx="67320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HT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02240" y="3670200"/>
              <a:ext cx="3417840" cy="47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36960" y="4314960"/>
              <a:ext cx="1374840" cy="4777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Verdana"/>
                </a:rPr>
                <a:t>(All ships)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Planned works :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08360" y="4272120"/>
              <a:ext cx="3419640" cy="47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63760" y="4846680"/>
              <a:ext cx="2158920" cy="2462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Verdana"/>
                </a:rPr>
                <a:t>(All ships)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Planned operations: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00440" y="4846680"/>
              <a:ext cx="341964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6520" y="3416400"/>
              <a:ext cx="658152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(3-days before arrival) PSC inspection information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Verdana"/>
                </a:rPr>
                <a:t>(All ships bound for extended inspection)</a:t>
              </a: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47040" y="3416400"/>
              <a:ext cx="517320" cy="2462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ave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64200" y="3416400"/>
              <a:ext cx="623880" cy="2462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Reset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4880" y="5187960"/>
              <a:ext cx="215892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Verdana"/>
                </a:rPr>
                <a:t>(All ships)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onditions of cargo and ballast tanks: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62440" y="5329080"/>
              <a:ext cx="505764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88360" y="6496200"/>
            <a:ext cx="850680" cy="20052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int/ export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6616800"/>
            <a:ext cx="28018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cc3300"/>
                </a:solidFill>
                <a:latin typeface="Verdana"/>
              </a:rPr>
              <a:t>* Mandatory field(s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05520" y="1803240"/>
            <a:ext cx="23335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ancel Expected Ship Cal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3:40:55Z</dcterms:created>
  <dc:creator>Paul Wilkins</dc:creator>
  <dc:description/>
  <dc:language>en-US</dc:language>
  <cp:lastModifiedBy>FIAMMA Lorenzo</cp:lastModifiedBy>
  <cp:lastPrinted>2004-03-26T09:05:49Z</cp:lastPrinted>
  <dcterms:modified xsi:type="dcterms:W3CDTF">2009-04-16T11:41:29Z</dcterms:modified>
  <cp:revision>382</cp:revision>
  <dc:subject/>
  <dc:title>Slide 1</dc:title>
</cp:coreProperties>
</file>